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A74-EDF0-443F-9C42-E0579BE7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and Biomas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n C#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 Proto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rp server as windows servi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mport/Ex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reeView of 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DataGrid Compon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Waypoint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PlantPatch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Import Wizard Prototype Wizard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Save/Resto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4/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2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resen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elivera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prototype some  things in V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361-6809-4A93-9D7D-B49ED9C5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2B1-2F9F-4186-AB75-E4D6EC91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4A1-38AA-493E-AB18-DADF06C1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D81-C5DF-4F52-AC68-261CD3F9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9F86-15AB-49BB-A87D-EAACE627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617-1CC8-4149-A18B-AD639995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0D52-A899-43B3-A840-597E51EA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071F-4F01-45F4-BBEF-4DD5DBC2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6265-EB09-4A59-AE34-185BBB49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3B7B-CCDE-428D-82A8-0D77F43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CF1C-09A2-4C85-8FFC-36E6D3A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8A5-C5BC-4154-ADDE-C869C03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99E9-D0CD-40DA-BD2A-E046566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5BBE-D470-4128-910D-DEBE843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4C6F-5FD5-45EA-BCEE-B13B9294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AC52-6BFF-4926-A764-A8758E86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EDB2-4147-477C-8949-9873C03C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AD8-7E4D-4B68-835C-9B406FF9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8D9-2738-4BB8-9824-482EED8B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924-4C08-4D4A-AA36-62E205D1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BD2-5C7E-4614-9A6A-14C12269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BCA-3C19-4BEE-A45E-2979CEE0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8AF-51B4-473C-9C5D-491BCB0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D00-639C-4DF9-8E98-1C4DBCDB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331-B5BF-40CE-A367-C3CF310A7F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7390-6037-49E9-85DA-D128AB5E74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mhs.jimweller.net/" TargetMode="External"/><Relationship Id="rId4" Type="http://schemas.openxmlformats.org/officeDocument/2006/relationships/hyperlink" Target="http://mhs.jimweller.net/" TargetMode="External"/><Relationship Id="rId5" Type="http://schemas.openxmlformats.org/officeDocument/2006/relationships/hyperlink" Target="http://mhs.jimweller.net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hs.jimweller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4724280"/>
          <a:ext cx="2361960" cy="18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236196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Moose Forage Surveyor</a:t>
            </a:r>
            <a:br>
              <a:rPr sz="18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al Presentation</a:t>
            </a:r>
            <a:br>
              <a:rPr sz="1800"/>
            </a:b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mhs.jimweller.net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715000" y="457524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514600" y="3124080"/>
            <a:ext cx="38098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! Fun! Fun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# i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we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 is obt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ing requirements means no sense of cl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VC is useful paradig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totyping like sculpture (chisel until perfec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could do this for a living </a:t>
            </a:r>
            <a:r>
              <a:rPr b="1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68520"/>
            <a:ext cx="80773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 Dom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ose Popula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t current year growth (CYG) of tasty pl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w or shrink proportional to tasty forage supp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ologis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Current Year’s Growth (CY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lculate biomass of forage supp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ct sustainable moose popul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urrent techniques are time consum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. Spalinger suggests a sparse mo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l uses regressions and proj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l built using computer and hard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en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ies like the Forest Service give biologists a list of GPS waypoints in a comma separated values (CSV) fi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logists go to the waypo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logists measure moose forage using Tablet PCs and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logists then export the measurement data for each waypoint as a CSV fi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typing Life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69240" y="6334200"/>
            <a:ext cx="6120" cy="7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9360" y="17593"/>
                </a:moveTo>
                <a:cubicBezTo>
                  <a:pt x="19366" y="17604"/>
                  <a:pt x="19368" y="17609"/>
                  <a:pt x="19376" y="1761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2363760"/>
            <a:ext cx="62211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VC Archite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framework to record CYG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adouts and realtime 2D/3D sc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ta with software and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4002120"/>
          <a:ext cx="403848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002120"/>
                    <a:ext cx="40384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iplined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Plan in MS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g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mhs.jimweller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ekly+ Meetings with Dr. Spalin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52037"/>
          <a:stretch/>
        </p:blipFill>
        <p:spPr>
          <a:xfrm>
            <a:off x="1001880" y="3886200"/>
            <a:ext cx="738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ed in Visual Studio 200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D Pen as OLE control in C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in C#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ware awar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D using Direct3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D using GDI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k Inp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 serialization/deseri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438280"/>
            <a:ext cx="7848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tal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s of Code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,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Size in meg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VS Commi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O Class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 hour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ting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g pos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unds of Gear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2.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nstration Mov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’s a 6 minute sample movie that shows some of the software’s capab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HS Final.wm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2:55:53Z</dcterms:created>
  <dc:creator>Jim Weller</dc:creator>
  <dc:description/>
  <dc:language>en-US</dc:language>
  <cp:lastModifiedBy>Jim Weller</cp:lastModifiedBy>
  <dcterms:modified xsi:type="dcterms:W3CDTF">2006-04-18T23:00:42Z</dcterms:modified>
  <cp:revision>31</cp:revision>
  <dc:subject/>
  <dc:title>Moose Habitat Surveyor (MHS) Requirements and Design Analysis http://mhs.jimweller.net/ </dc:title>
</cp:coreProperties>
</file>